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275-BA28-4758-9283-02DB2EF76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0D8-E76F-4B0A-8CD8-C757254F91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01E-9527-4CA8-8851-C39087C701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B71-FDD4-4BFF-BF76-A8B870D7D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4C6-70FF-4987-A274-4286241CD8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A6F8-5696-4631-9333-0C961BD56F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816-6D91-4E29-A6ED-6F37012DFC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32D-B79B-42E4-A87E-4EE1ADC64D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2DC-F1FC-4B85-BC0A-64A6FD5C55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FE2-7449-4EFF-8BA4-3F72E0FE09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92D9-673E-4534-829F-EED5E45EAA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AA3-3946-47CE-99AB-28A0253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DC3-82AD-44A3-96D7-D6E1F31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B46FF-6493-4F3E-8486-36BC85F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0F03C0-8113-4EF0-996B-34D69C0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F5C3A-5AD5-4B22-A292-0EA45296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C7D1B-0B2B-4612-8EF1-ABDF695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AEEC0-84A3-441F-ACA5-9A971D3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58596B-2725-43D1-B049-AC14F686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52A1A-15A8-4996-B907-0185F15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0F8C6-9D58-41BC-ACBD-24728877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4BB4F-C2E5-44C0-AD94-526F7C47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E83-54B4-4E63-AB62-88D10D60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A46-D017-4143-A594-63A98B89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55784-360F-4048-A1BA-09057664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02FE-DE94-4699-8FF4-DE8F9A64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6EB23-4948-48C2-9AEF-8C9070DE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3211-FC40-4262-B95B-CE070A0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26E3-8B20-4C90-AEC3-9BB2894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5F3B-D005-4B3C-9C4D-E79A3558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995B9-7788-48A4-A1FD-F557F24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62C-534B-4FFE-A4C9-6421D8C1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97337-5649-4132-92B7-DB90AB0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8702C-EB92-45F2-B577-A53CAB2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4D1A-5E64-4801-A10F-C96250D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040F6-E472-44E5-A079-284FB942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783DA-93FB-4F8F-95BD-0786156B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8882-BE32-4B3B-A9B7-80C291B2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436F-8F40-42F1-B632-96C679BF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F0BB-1131-406A-832B-56CEAD5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5A82-BA6B-469A-A931-CCC2CB9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044B-1235-4729-BA35-D32AB4F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BE9-D070-41EF-81F1-40CB26C1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794D-C53F-4CE2-A3E5-568E7388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FEDC-270E-4764-9633-2C89948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0FC1-8F3C-4967-8B92-902F074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7F72-957D-4142-A912-C8EB7F8D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86A1-97B4-4375-A5AE-65AC9E9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FA03-766D-40BF-9E35-EB7EED54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B8AD-49A2-4EDF-87BC-287AA4B8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69313-7CAB-4C69-AD31-7BFDB551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AE8D0-4E69-4EF5-8DB9-FE56A87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94B53-FD95-495E-A95F-84272B9C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8FA-735E-4103-85CB-C3AA15B0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47FE7-777F-4C18-BA7E-6D7A2DC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05A46-2A66-48C5-8FCE-9E1CFE9B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14387-A0BC-4714-8C7A-8DE6803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CAF26-33B3-4E86-8E20-A1DC049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DFDA3-ED2A-482A-81F5-48F5ECC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6F3CD-A603-4C65-908E-2E7D9D5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6CBC6-F748-45A4-85E7-F958E51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9AAA2-4971-48F2-B578-DE288633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09235-4EE4-494A-9D44-288002BA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710A-6B6E-42AE-956C-CC8A314D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25B-1CA6-4E65-8631-23F018B2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E4AC-25E6-491F-99F3-E809C08F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E256-F2DF-4AF4-B5FB-32BB8DF8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11AA-86AF-406B-9FFB-B10FA35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2E93-DFFE-4A7B-B12C-D9B83C4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EC19-292C-4B23-8F7B-7B6798E3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CE579-D98A-4816-A16B-C1FDB3A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7E49-1885-476B-9168-235B3A63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A58F-451F-4175-8192-98C9ED62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FF08-8201-4C7E-9F99-A4751F8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01F7-03AB-46CC-9171-536140B1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092-6E57-4FE7-AF92-9A5AFF9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E428-657B-4D68-8A32-251C0607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D30B-A347-44DC-93F9-C4037A16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144A4-BE6B-4946-A9D6-8A0EE0D9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E986-1161-4039-88F6-621FCE4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76E4C-28C2-4F72-9BFA-57BC37A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D7F1-6273-40AE-9688-A237795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67811-FD24-46A9-898E-6F0103DE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8C2B-9111-4E73-8916-F8835B2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10C1-C5A2-42B6-8788-10542A0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0E60-B7F7-4485-BE38-8D3295B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18A-21E8-4961-ACAB-558D12B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1AE5-4089-4DD1-AA8E-E9CCFDA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5E85-5E74-47EB-989C-9F25C70E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3894-1FEF-452F-8CC2-80B5B4C8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39FF-8A52-4AF5-B5A1-170FD2E2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045E-F9FF-4A13-A1CC-9EF1034A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09F5-321B-4BBD-9EE7-E334088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F368-EFEB-462E-A73D-BDADC42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61B5-88E9-4D36-AD9B-E80F1201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8142-7B53-4FAC-A67A-BAF00AE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694E-22E8-41A3-912C-01AFE33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13A-94D5-495C-BEBF-59655C8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7AD1-33F8-4E60-919B-7214FC80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FA6BA-7B5A-4D03-B8A5-AA58713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BE774-4792-4F59-8DF4-5E8867A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F72A-C20C-4E13-AAAF-CF400F8E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E086-975F-4C51-B8C4-2B1CF5D7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AFA79-AE44-40A0-8844-E32517DD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C9B34-201C-4F26-8F5B-AC304685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C4E255-132F-4152-A5C0-D0870E9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7E7C2-2A5E-4505-99D3-10A42AC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896E19-0938-4BDB-B426-528AC93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11D-9D93-48B6-B795-0A286B2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4A416-05EB-4119-A0B4-F967B92A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F0C89-F35E-459A-B895-E84EB12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615CE-28D8-436C-B074-AD694A2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43971-DBFA-4727-BF48-4DE29C9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268F0-A53A-48E5-8CCD-E3A2C928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3A0F0-A4B0-4E3E-9D63-BCB4AA87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B4232-042A-4A2C-A2B6-97AA9976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88286-E5BA-419A-953C-B144378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5ADBF-265F-4337-9ED3-BBAF4461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8E75E-8DE7-474D-A0ED-5DF34B5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9C1-D9DC-4C03-8F30-46E45145D0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94C-1382-4183-8F78-C6EEEFFFE4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9FE1-69AB-453B-AB1A-D0030814467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188C-0AD1-4788-B65A-DB0A14ABE7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6011-4E3A-4CCD-9D8F-5525E34DC1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E8A-7D80-4F12-9146-563C440E5D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E72-6376-4E18-B639-5EF8838191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9449-0177-4C61-8B4A-0FAF7697C4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99E5-360D-46FE-B7D4-AF1D8A5FE33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youtube.com/watch?v=jt9f-MZX-58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youtube.com/watch?v=4Z6xX78PfV8&amp;list=PLCB3CADEDB895EAC5&amp;index=2&amp;noredirect=1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088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ily Stol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m Scheurenbr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icia Snyd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ltimate free marke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ore/larger interest groups due to communication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ny use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Fund raising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logs/discussion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Candidate website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Picture 3" descr="computer.jpg"/>
          <p:cNvPicPr/>
          <p:nvPr/>
        </p:nvPicPr>
        <p:blipFill>
          <a:blip r:embed="rId2"/>
          <a:stretch/>
        </p:blipFill>
        <p:spPr>
          <a:xfrm>
            <a:off x="5029200" y="2743200"/>
            <a:ext cx="3159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es created and supported newspap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irculation was small and newspapers expens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ly distributed among political elite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Gazett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National Intelligenc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8" name="Picture 6" descr="Gazette.jpg"/>
          <p:cNvPicPr/>
          <p:nvPr/>
        </p:nvPicPr>
        <p:blipFill>
          <a:blip r:embed="rId2"/>
          <a:stretch/>
        </p:blipFill>
        <p:spPr>
          <a:xfrm>
            <a:off x="685800" y="2666880"/>
            <a:ext cx="3618000" cy="2438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Intelligencer.jpg"/>
          <p:cNvPicPr/>
          <p:nvPr/>
        </p:nvPicPr>
        <p:blipFill>
          <a:blip r:embed="rId3"/>
          <a:stretch/>
        </p:blipFill>
        <p:spPr>
          <a:xfrm>
            <a:off x="4724280" y="2514600"/>
            <a:ext cx="38322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nge in society and technolog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igh-speed rotary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legraph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sociated Press – papers brief and subjectiv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rbaniz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vernment Printing Office – ending printing contract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sanship came from publishers and edi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nsationalism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ublishers could become powerful political influen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4472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Hearst and the war with Spain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4" name="Picture 3" descr="hearst.jpg"/>
          <p:cNvPicPr/>
          <p:nvPr/>
        </p:nvPicPr>
        <p:blipFill>
          <a:blip r:embed="rId2"/>
          <a:stretch/>
        </p:blipFill>
        <p:spPr>
          <a:xfrm>
            <a:off x="2438280" y="4572000"/>
            <a:ext cx="3938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ddle class hated “yellow journalism” and favored political reform and progressive movemen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3" descr="Maine.jpg"/>
          <p:cNvPicPr/>
          <p:nvPr/>
        </p:nvPicPr>
        <p:blipFill>
          <a:blip r:embed="rId2"/>
          <a:stretch/>
        </p:blipFill>
        <p:spPr>
          <a:xfrm>
            <a:off x="5486400" y="2895480"/>
            <a:ext cx="26668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ividual writers gain national follow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peting newspapers and sensationalism declin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 politics is no longer main focu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adios and televis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llows direct communication, not filtered, but easily ignor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w could be broadcast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ostly the President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d those criticizing the Presi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3" descr="radio-show-1.jpg"/>
          <p:cNvPicPr/>
          <p:nvPr/>
        </p:nvPicPr>
        <p:blipFill>
          <a:blip r:embed="rId2"/>
          <a:stretch/>
        </p:blipFill>
        <p:spPr>
          <a:xfrm>
            <a:off x="990720" y="4495680"/>
            <a:ext cx="2514600" cy="20304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5"/>
          <p:cNvSpPr/>
          <p:nvPr/>
        </p:nvSpPr>
        <p:spPr>
          <a:xfrm>
            <a:off x="4724280" y="4876920"/>
            <a:ext cx="3505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youtube.com/watch?v=jt9f-MZX-58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ise of talk show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g Three Network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4472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BC, CBS, and NBC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und bite – a radio or video clip of someone speak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rnold Schwarzenegge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6" name="Picture 3" descr="arnold.jpg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3055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NBC.jpg"/>
          <p:cNvPicPr/>
          <p:nvPr/>
        </p:nvPicPr>
        <p:blipFill>
          <a:blip r:embed="rId3"/>
          <a:stretch/>
        </p:blipFill>
        <p:spPr>
          <a:xfrm>
            <a:off x="5715000" y="1600200"/>
            <a:ext cx="2133720" cy="1424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990720" y="4495680"/>
            <a:ext cx="396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4"/>
              </a:rPr>
              <a:t>http://www.youtube.com/watch?v=4Z6xX78PfV8&amp;list=PLCB3CADEDB895EAC5&amp;index=2&amp;noredirect=1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51:25Z</dcterms:created>
  <dc:creator>snyder105283</dc:creator>
  <dc:description/>
  <dc:language>en-US</dc:language>
  <cp:lastModifiedBy>lullmannj</cp:lastModifiedBy>
  <dcterms:modified xsi:type="dcterms:W3CDTF">2013-03-27T12:41:30Z</dcterms:modified>
  <cp:revision>44</cp:revision>
  <dc:subject/>
  <dc:title>Journalism in American Political History</dc:title>
</cp:coreProperties>
</file>